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3E66-5661-4C45-AFFF-CAA8168DC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056C-717A-48E0-999C-3DDE1319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AFE3-40F4-4E52-9CF6-CDE1905F3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A414-5429-4160-9FC8-1833DD30A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D174-617A-4C66-9FF6-13FC5979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8403-1BA1-4EAF-8635-C76EB568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0695-23C1-4A0C-B160-054B2A8B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0D79-3332-4073-9E38-4B5892FE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9B34-73E9-4358-A72A-84E09B19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ABEC-AEB4-404B-8DA3-A86654E6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5BE7-32D7-476C-9D74-42117EA4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1EC2-1EAD-45C1-913A-727E69BA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6650-6840-47B5-8C8E-34583FFDB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ember our norm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investi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keep the launch force the same and add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unch from 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rst use one panc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n add another – launch a stack of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ally, launch a stack of th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Three trials each, same force each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ing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one piece of chart pap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lay your data tables and graph your res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ppen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you increased force, but kept the mass the s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increased mass and kept the force the s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ton’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Law of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Newton Mo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ton’s Second Law of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F=m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=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when you applied more force to the same mass . .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hen you increased the mass . .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Faking 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a few minutes to read through the second law examples and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ton’s Laws of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Law: Law of Inert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bject at rest stays at rest, an object in motion remains in motion unless acted upon by a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aw: F=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ce acting on a body is directly proportional to (and in the same direction as) its 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Law: Action/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very action, there is an equal and opposite reaction (for every push, there is a push b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 where’s the ma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onal Board for Professional Teaching Standa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the standa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ne(s) best fit(s) what we have been doing this mor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this in your notebook with justifications for each standard you ch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o Math and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c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 your interactive note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ing about the math and science we have worked on this mor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these lessons be used to benefit your students?  (And how might you modify them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mpact did this have on your thinking about how you can use math/science connections in your class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ease sit with a group of two math and two science teach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least have one math and one science teacher in your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the “dot diagram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with your group members how the diagrams illustrate accel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other side of the page, work with your group to draw Renatta’s oil dri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ding up your sp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in velocity over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lang="en-US" sz="4800" spc="-1" strike="noStrike" u="sng" baseline="-25000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 – v</a:t>
            </a:r>
            <a:r>
              <a:rPr b="0" lang="en-US" sz="4800" spc="-1" strike="noStrike" u="sng" baseline="-25000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∆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– t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∆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 this . . 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your acceleration if you speed up from 5 m/s to 40 m/s in 5 secon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if you accelerate in a bass boat from a stop to a speed of 50m/s in only 8 secon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r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ncake Catap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it.  Modified dire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Member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p. 18 &amp;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/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oter/safety offi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er/data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r/retu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ncake Catap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the modified directions (after page 1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distance when you change the force appl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your data in your interactive note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to make note of any questions you h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21:50:17Z</dcterms:created>
  <dc:creator>HISD</dc:creator>
  <dc:description/>
  <dc:language>en-US</dc:language>
  <cp:lastModifiedBy>HISD</cp:lastModifiedBy>
  <dcterms:modified xsi:type="dcterms:W3CDTF">2008-09-10T22:58:17Z</dcterms:modified>
  <cp:revision>3</cp:revision>
  <dc:subject/>
  <dc:title>Accelerating  into Math and Science</dc:title>
</cp:coreProperties>
</file>